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8259-C274-46E8-9E2F-507BF5C90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4222-5103-4CF2-B4EC-2E0C837A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6251-91DC-4C43-BACB-379E1E9D2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A466-B783-457B-BF78-F3250C428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F207-24C9-4EDA-AFEC-703E0BE17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C71E-9049-4F50-A756-4FE9E97B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C8DA-1598-4926-9415-4B2E1C61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AF2E-6332-4013-99AF-EDF996C1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71C2-6311-47E3-AD40-D6E32ADB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6AF4-8430-44D9-AAA9-D68B239A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5147-CFDF-4C7E-B956-94675FFD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4EED-4B16-40BC-87B4-38FCAE57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65B0-A40A-4091-808C-943E0BC7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38A0-6276-47DF-84B9-3B187F38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DC9E-0A49-49E5-868D-F9EDFD7D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19C0-7FA1-46C5-9335-B3558D6C6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CBED-17D3-4323-990A-A798E941E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FCFD-A448-425C-8FE5-6DB7692A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272D-37D4-4CDF-995E-DE30E062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2834-92F5-4620-AF85-6DD1701C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E22B-6E41-4772-AD10-5A01A2E1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55FF-8C42-439F-9999-74F5690B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C997-2025-4D6B-8C7B-C147AD81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D65C-08A9-4DF1-86D3-AA45F84E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A68C-9B4A-43FF-B5D4-39B34753F7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A8DC-2D43-428F-8C87-58C41465DD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www.uni.edu/~iowawet/H2OProperties.html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Cooper Black"/>
              </a:rPr>
              <a:t>Biological 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Cooper Black"/>
              <a:ea typeface="Cooper Black"/>
            </a:endParaRPr>
          </a:p>
        </p:txBody>
      </p:sp>
      <p:pic>
        <p:nvPicPr>
          <p:cNvPr id="162" name="Picture 16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163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2892ac"/>
                </a:solidFill>
                <a:latin typeface="Cooper Black"/>
              </a:rPr>
              <a:t>Biochemistry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2892ac"/>
              </a:solidFill>
              <a:latin typeface="Cooper Black"/>
              <a:ea typeface="Cooper Black"/>
            </a:endParaRPr>
          </a:p>
        </p:txBody>
      </p:sp>
      <p:pic>
        <p:nvPicPr>
          <p:cNvPr id="164" name="Picture 8" descr="C:\Users\Liz\AppData\Local\Microsoft\Windows\Temporary Internet Files\Content.IE5\CPHVRLKO\MCj02296450000[1].wmf"/>
          <p:cNvPicPr/>
          <p:nvPr/>
        </p:nvPicPr>
        <p:blipFill>
          <a:blip r:embed="rId2"/>
          <a:stretch/>
        </p:blipFill>
        <p:spPr>
          <a:xfrm>
            <a:off x="685800" y="3276720"/>
            <a:ext cx="25909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o you think water molecules stick together?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is water considered polar?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es polar mean?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>
            <a:hlinkClick r:id="rId4"/>
          </p:cNvPr>
          <p:cNvSpPr/>
          <p:nvPr/>
        </p:nvSpPr>
        <p:spPr>
          <a:xfrm>
            <a:off x="4114800" y="43434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17:20:52Z</dcterms:created>
  <dc:creator>PritchaJ</dc:creator>
  <dc:description/>
  <dc:language>en-US</dc:language>
  <cp:lastModifiedBy>PritchaJ</cp:lastModifiedBy>
  <dcterms:modified xsi:type="dcterms:W3CDTF">2011-05-24T17:23:35Z</dcterms:modified>
  <cp:revision>1</cp:revision>
  <dc:subject/>
  <dc:title>Slide 1</dc:title>
</cp:coreProperties>
</file>